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351936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Muskel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2729520"/>
            <a:ext cx="2699280" cy="135288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 flipV="1">
            <a:off x="3313080" y="4080600"/>
            <a:ext cx="2699280" cy="18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6012000" y="486900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Erythrozy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3"/>
            <a:endCxn id="103" idx="1"/>
          </p:cNvCxnSpPr>
          <p:nvPr/>
        </p:nvCxnSpPr>
        <p:spPr>
          <a:xfrm>
            <a:off x="3313080" y="4082040"/>
            <a:ext cx="2699280" cy="134820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894960" y="54936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ST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T-Aktivitä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16864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Leber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3" idx="3"/>
            <a:endCxn id="164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u lang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ehenlass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n Vollbl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5560" y="549360"/>
            <a:ext cx="72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T-Aktivität ↑ &gt; massive Schädigung von Erythrozyten &gt;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 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6760" y="549360"/>
            <a:ext cx="40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Leber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3"/>
            <a:endCxn id="11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hronische Hepat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IP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ymphom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zelluläres Karzinom,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ische Lipid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abe von NSAID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ekundäre 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durch Hyperthyreose)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480" y="5666760"/>
            <a:ext cx="38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P = feline infektiöse Peritonitis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NSAIDs = nicht-steroidale Antiphlogistika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kel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erz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Skelett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992880" y="549360"/>
            <a:ext cx="41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uskelzellschädig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z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4160" y="549360"/>
            <a:ext cx="606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uskelzellschädig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erz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3"/>
            <a:endCxn id="125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yokarditis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elett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4160" y="549360"/>
            <a:ext cx="606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Muskelzellschädigung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kelettmuskelzell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31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Trauma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yositis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rämpf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v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ädigung v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rythrozy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in </a:t>
            </a: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vitr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4" idx="3"/>
            <a:endCxn id="135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1055880" y="54936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massive Schädigung von Erythrozyt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3"/>
            <a:endCxn id="143" idx="1"/>
          </p:cNvCxnSpPr>
          <p:nvPr/>
        </p:nvCxnSpPr>
        <p:spPr>
          <a:xfrm flipV="1">
            <a:off x="3313080" y="3404880"/>
            <a:ext cx="2689920" cy="67680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46" name=""/>
          <p:cNvCxnSpPr>
            <a:stCxn id="142" idx="3"/>
            <a:endCxn id="144" idx="1"/>
          </p:cNvCxnSpPr>
          <p:nvPr/>
        </p:nvCxnSpPr>
        <p:spPr>
          <a:xfrm>
            <a:off x="3313080" y="4080960"/>
            <a:ext cx="2689920" cy="6757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1093680" y="54936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6" action="ppaction://hlinksldjump"/>
              </a:rPr>
              <a:t>massive Schädigung von Erythrozyten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7" action="ppaction://hlinksldjump"/>
              </a:rPr>
              <a:t>in viv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3360" y="549360"/>
            <a:ext cx="70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ST-Aktivität ↑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&gt; massive Schädigung von Erythrozyten &gt;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 vivo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3"/>
            <a:endCxn id="15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Babesi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fektion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ämotrophen Mykoplasmen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5240" y="63968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ravasa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4840" y="549360"/>
            <a:ext cx="74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T-Aktivität ↑ &gt; massive Schädigung von Erythrozyten &gt;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 vivo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ravasale Hämolys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9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upferintoxik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dlington-Terrier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wendung eines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lysmas mi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itungswass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v. a. Katz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ypophosphatämi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bei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iabetischer Ketoazidose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 ein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utoimmunhämolytis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nämi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chwerer Verlauf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einer Babesi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240" y="5910120"/>
            <a:ext cx="33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T = Aspartat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. a. = vor allem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56:40Z</dcterms:modified>
  <cp:revision>335</cp:revision>
  <dc:subject/>
  <dc:title>Vorstellung einer Neuheit</dc:title>
</cp:coreProperties>
</file>